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1B9-FFE2-4E79-A4E2-7ADC58B5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9C1-1E9B-44A7-9301-DDBE5DF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562-A3A1-4968-90CE-6B85118B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0D4-21F9-47A0-91C6-857B6BEC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21D-C428-46CD-9508-6D438E3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9B2-2DC4-4D2D-A820-57D3AFA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507-5053-48E4-8704-954DA341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293-1CBB-417A-8BCE-89982163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7AD-63B8-4882-8743-86D1F87F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978-872E-4D04-9B0C-FE26D7C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BCF-8743-4582-B9F2-A7F1CFB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AC9-5B17-4767-80C7-613A20C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6C4-59C7-4417-8B19-768503FC5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ru.wikipedia.org/wiki/&#1055;&#1072;&#1087;&#1080;&#1088;&#1091;&#1089;_&#1040;&#1093;&#1084;&#1077;&#1089;&#1072;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54160" y="3206880"/>
            <a:ext cx="9567720" cy="23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2520" y="5219280"/>
            <a:ext cx="70232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Arial"/>
              </a:rPr>
              <a:t>Группа «Философов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Arial"/>
              </a:rPr>
              <a:t>Учащиеся 9 класс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993600" y="444600"/>
            <a:ext cx="8299800" cy="115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628640" y="1873080"/>
            <a:ext cx="69454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4840" y="339480"/>
            <a:ext cx="903132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Цель исследовательской работы:</a:t>
            </a:r>
            <a:br>
              <a:rPr sz="3600"/>
            </a:br>
            <a:br>
              <a:rPr sz="3600"/>
            </a:b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Выяснить</a:t>
            </a:r>
            <a:r>
              <a:rPr b="0" lang="ru-RU" sz="3100" spc="-1" strike="noStrike">
                <a:solidFill>
                  <a:srgbClr val="990099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 как </a:t>
            </a:r>
            <a:r>
              <a:rPr b="0" lang="ru-RU" sz="3100" spc="-1" strike="noStrike">
                <a:solidFill>
                  <a:srgbClr val="990099"/>
                </a:solidFill>
                <a:latin typeface="Arial"/>
              </a:rPr>
              <a:t>появились прогрессии?</a:t>
            </a:r>
            <a:br>
              <a:rPr sz="3100"/>
            </a:br>
            <a:br>
              <a:rPr sz="3100"/>
            </a:b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Гипотеза:</a:t>
            </a:r>
            <a:br>
              <a:rPr sz="3600"/>
            </a:br>
            <a:br>
              <a:rPr sz="3600"/>
            </a:b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Мы считаем, что открытие прогрессий было неизбежно и способствовало развитию математики в целом</a:t>
            </a:r>
            <a:r>
              <a:rPr b="0" lang="ru-RU" sz="31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666600"/>
                </a:solidFill>
                <a:uFillTx/>
                <a:latin typeface="Arial"/>
              </a:rPr>
              <a:t>Задачи исследования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1. История возникновения прогресс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2. Арифметические прогрессии в древно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99"/>
                </a:solidFill>
                <a:latin typeface="Arial"/>
              </a:rPr>
              <a:t>3. Геометрические прогрессии в древно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08000"/>
                </a:solidFill>
                <a:latin typeface="Arial"/>
              </a:rPr>
              <a:t>Историческая справка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Термин «</a:t>
            </a:r>
            <a:r>
              <a:rPr b="1" i="1" lang="en-US" sz="3100" spc="-1" strike="noStrike">
                <a:solidFill>
                  <a:srgbClr val="800080"/>
                </a:solidFill>
                <a:latin typeface="Arial"/>
              </a:rPr>
              <a:t>Прогрессия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» от латинского слова «</a:t>
            </a:r>
            <a:r>
              <a:rPr b="0" i="1" lang="en-US" sz="3100" spc="-1" strike="noStrike">
                <a:solidFill>
                  <a:srgbClr val="800080"/>
                </a:solidFill>
                <a:latin typeface="Arial"/>
              </a:rPr>
              <a:t>движение вперед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» введен римским автором </a:t>
            </a:r>
            <a:r>
              <a:rPr b="1" lang="en-US" sz="3100" spc="-1" strike="noStrike">
                <a:solidFill>
                  <a:srgbClr val="800080"/>
                </a:solidFill>
                <a:latin typeface="Arial"/>
              </a:rPr>
              <a:t>Боэцием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 (VI в.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В математике: это всякая последовательность чисел, построенная по такому закону, который позволяет неограниченно продолжать эту последовательность в одном направлении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Арифметические прогрессии в дре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Встречаются 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во 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II тысячелети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 до н.э.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Клинописные таблички вавилоня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Египетские папирус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Древнекитайский трактат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«Математика в девяти книгах»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7238880" y="3639960"/>
            <a:ext cx="255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Геометрические прогрессии в дре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Встречаются 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во 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II тысячелети</a:t>
            </a:r>
            <a:r>
              <a:rPr b="0" lang="ru-RU" sz="31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 до н.э.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Клинописные таблички вавилоня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Египетские папирус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Древнекитайский трактат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«Математика в девяти книгах»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Индийские «сиддханты»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5872320" y="4668840"/>
            <a:ext cx="3377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663300"/>
                </a:solidFill>
                <a:latin typeface="Arial"/>
              </a:rPr>
              <a:t>Выводы</a:t>
            </a:r>
            <a:r>
              <a:rPr b="0" lang="en-US" sz="4900" spc="-1" strike="noStrike">
                <a:solidFill>
                  <a:srgbClr val="999900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Понятие «прогрессия» имеют важную роль в математике. Рассмотренная в ходе исследования история возникновения, дает нам понять, что прогрессии использовались в Древней Египте, Вавилоне и других странах и способствовала развитию математики.</a:t>
            </a:r>
            <a:r>
              <a:rPr b="0" lang="en-US" sz="3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160" cy="254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07960" y="1596960"/>
            <a:ext cx="8975880" cy="2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0" y="2540160"/>
            <a:ext cx="254160" cy="253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0" y="5079960"/>
            <a:ext cx="254160" cy="2540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Макарычев Ю.Н. и др. Алгебра. Учебник для 9 класса. – М.: Просвещение, 200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Перельман Я.И. Занимательная алгебра. – Д.: ВАП,199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Перельман Я.И. Живая математика. – Д.: ВАП,199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ru.wikipedia.org/wiki/Папирус_Ахмес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00"/>
                </a:solidFill>
                <a:latin typeface="Arial"/>
              </a:rPr>
              <a:t>http://ru.wikipedia.org/wiki/Математика_в_древнем_Кита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oma</cp:lastModifiedBy>
  <dcterms:modified xsi:type="dcterms:W3CDTF">2011-06-06T18:29:17Z</dcterms:modified>
  <cp:revision>2</cp:revision>
  <dc:subject/>
  <dc:title>PowerPoint Presentation</dc:title>
</cp:coreProperties>
</file>